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1B2A-5B95-40BD-9878-6C55B175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D3B7-235C-4963-A4F6-078BAD6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E410-CFC2-4608-B966-E4D48022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F7F9-762A-46E8-BB72-5A126EA9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E2F5-D8E0-4FE5-A540-B6B4A8AE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44B0-D5DC-45C4-A650-C7B2FFCC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FB4-EFC6-4A2F-B1D0-AA3208BA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27CC-F1D0-4B44-B654-AB38CFF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BBBE-7224-4796-9B5D-6113AD56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12ED-0405-4BDA-8978-C610C79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B3B-6AFC-43D6-BF74-B1BAA98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1F703-EF40-4535-BD21-865A93D6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FA7B-A547-4D85-9DA7-C3B33EE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F1BE-63E1-45EE-A9EC-C2251678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999B-69BE-4F32-84A8-266875F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115-130F-413F-9F7A-BA001FA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83D1-BD65-4A17-A520-4FCDC790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D24C-85FB-409F-A138-1F3484B8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3DC7-2D9C-43CF-A6A5-14C5E1E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797F-C7F8-434B-BBE0-4C33FBE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F70D-179B-4F6C-9000-290CB405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7354-1E39-42E0-9BDA-BE46DD5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7345-0721-487A-A4B2-DDC96D3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EDDC-2FD0-4145-8972-56D9F96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2906-499A-499D-AF74-C6347649D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F7F-EA12-419A-B772-95FF3CC1896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DC1-D946-4D13-9032-D3CF78F3DEE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07E1-8F55-412A-B493-D0D5CE12F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2DDE-404E-46E6-950A-9B9EDB8DD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08F8-7AAF-4D0E-B927-F6DCEA85F26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BÁO C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402-08B6-47D2-A78A-6DC87943C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0962-62FE-4B7C-B398-45C37CB665D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</a:t>
            </a: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……………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aëc ñieåm tình hình; Nhieäm vuï ñöôïc giao; Thuaän lôïi khoù kha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Muïc tieâu, nhieäm vuï saép tôùi; Caùc bieän phaùp thöïc hieän; Kieán nghò, ñeà xuaát vôùi caáp tre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i="1" lang="en-US" sz="2000" spc="-1" strike="noStrike">
                <a:solidFill>
                  <a:srgbClr val="000029"/>
                </a:solidFill>
                <a:latin typeface="VNI-Times"/>
              </a:rPr>
              <a:t>Nôi nhaän: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                                               QUYEÀN HAÏN, CHÖÙC VUÏ NGÖÔØI KY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………………………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Löu VT, PHC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62520" y="289548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Q, TC CẤP TRÊN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Ơ QUAN, TỔ CHỨ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429000" y="0"/>
            <a:ext cx="5715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066680" y="9907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724280" y="106668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72C4-4DC9-46E3-BD9E-093C9F3BE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3246-3AE3-48DB-86E0-DF32576A42E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Neâu caùc yeâu caàu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aáu truùc cuûa baùo caùo vaø nhöõng noäi dung chính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ÂU HỎI ÔN TẬP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Soaïn Baùo caùo veà hoaït ñoäng cuûa lôùp em naêm hoïc vöøa qua gôûi Phoøng Quaûn lyù HSSV&amp;TTGD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Horizontal Scroll 8"/>
          <p:cNvSpPr/>
          <p:nvPr/>
        </p:nvSpPr>
        <p:spPr>
          <a:xfrm>
            <a:off x="380880" y="32767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ÀI TẬP (30p)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885C-1F75-49D0-8D8B-A429CB06E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EBB-A6EE-4E5F-9362-F1805013981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toång keát naêm hoïc 2010 - 2011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Phoøng Quaûn lyù HSSV &amp; TTG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Nhaän ñònh chung veà ñaëc ñieåm tình hình cuûa lôùp; Thuaän lôïi khoù khaên cuûa lôù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keát quaû hoaït ñoäng cuûa lôùp trong 3 lónh vöïc: Hoïc taäp, reøn luyeän, tham gia coâng taùc xaõ hoäi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-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eà xuaát, kieán nghò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5618160"/>
          <a:ext cx="8458200" cy="1011240"/>
        </p:xfrm>
        <a:graphic>
          <a:graphicData uri="http://schemas.openxmlformats.org/drawingml/2006/table">
            <a:tbl>
              <a:tblPr/>
              <a:tblGrid>
                <a:gridCol w="5334120"/>
                <a:gridCol w="3124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Nôi nhaä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ÔÙP TRÖÔÛ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Phoøng QLHSSV&amp;TTG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ö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8"/>
          <p:cNvSpPr/>
          <p:nvPr/>
        </p:nvSpPr>
        <p:spPr>
          <a:xfrm>
            <a:off x="0" y="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OA QTK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ỚP …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29000" y="0"/>
            <a:ext cx="5715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724280" y="91440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CC0F-777F-4A35-A83B-40D5F507F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CF0-28CB-45DD-9CA5-44198B4731B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Khái niệm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Yêu cầu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ân loại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Cấu trúc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ương pháp soạn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5"/>
          <p:cNvSpPr/>
          <p:nvPr/>
        </p:nvSpPr>
        <p:spPr>
          <a:xfrm>
            <a:off x="380880" y="18576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ỘI DUNG BÀI GIẢNG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988-E41A-4B19-8B14-6768CBEBB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3FE-62B7-494E-85A7-8E8AA233CE4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Vaên baûn haø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Chæ duøng cho CQ, TC caáp döôù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Noäi d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Phaûn aùnh söï vieäc, hoaït ñoäng cuûa CQ, TC trong moät khoaûng thôøi gian cuï the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höùc naê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Q, TC caáp treân ñaùnh giaù ñöôïc tình hình thöïc teá, kòp thôøi ñeà ra chính saùch, bieän phaùp quaûn lyù phuø hôï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80880" y="3348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KHÁI NIỆM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0BC4-5DCE-4186-8FB8-E96838B3F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B8CA-9CC5-488E-BA38-6EB47D6AE28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Trung thöïc, khaùch quan, chính x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hi tieát, soá lieäu phaûi ñuùng thöïc te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uï theå, coù troïng taâm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aáp treân ñaùnh giaù ñuùng tình hình thöïc teá ñeå ban haønh caùc quyeát ñònh quaûn ly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Kòp thôøi, nhanh choù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Vì baùo caùo phuïc vuï coâng taùc quaûn lyù, ñieàu haø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YÊU CẦU CỦA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F52B-B974-4AC0-94E3-C836D74D7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AEE-04E7-440E-863B-B8904BB3BB6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76320" y="2057400"/>
            <a:ext cx="259056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oâng taù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838080" y="3581280"/>
            <a:ext cx="28195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ñeà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5943600" y="2057400"/>
            <a:ext cx="30481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mo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0200" y="685800"/>
            <a:ext cx="5943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3. PHAÂN LOAÏI BAÙO CAÙ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76720" y="4419720"/>
            <a:ext cx="274320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5791320" y="3581280"/>
            <a:ext cx="274320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Thöïc teá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2666880" y="1828800"/>
            <a:ext cx="1905120" cy="9144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971440" y="1828800"/>
            <a:ext cx="1600200" cy="18288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541760" y="1828800"/>
            <a:ext cx="106560" cy="25909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95680" y="1828800"/>
            <a:ext cx="1676520" cy="1905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495680" y="1828800"/>
            <a:ext cx="1447920" cy="762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023B-D9E8-4CB2-A43D-701879475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31A-9917-47FF-9F8B-DF09A24DF24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oâng t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Sô keát, toång ke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ñeà, vụ việ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Moät vaán ñeà trong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moân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aøi chính, thueá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Ñeà caäp taát caû caùc maët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thöïc teá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höïc teá coâng taùc vaø ñeà xuaát bieän phaùp giaûi quyeát vaán ñe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5"/>
          <p:cNvSpPr/>
          <p:nvPr/>
        </p:nvSpPr>
        <p:spPr>
          <a:xfrm>
            <a:off x="380880" y="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PHÂN LOẠI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F917-1D17-40AC-9428-EBC52C2CD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419-4872-4620-8F93-E98F3C9B0E8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iệm vụ được giao, thuận lợi, khó khăn trong thực 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80880" y="0"/>
            <a:ext cx="838224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CẤU TRÚC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Horizontal Scroll 6"/>
          <p:cNvSpPr/>
          <p:nvPr/>
        </p:nvSpPr>
        <p:spPr>
          <a:xfrm>
            <a:off x="457200" y="1100160"/>
            <a:ext cx="2514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2819520"/>
            <a:ext cx="807732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ết quả thực hiện; công việc đã làm được, chưa làm được; nguyên nhân chủ quan, khách qu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Horizontal Scroll 8"/>
          <p:cNvSpPr/>
          <p:nvPr/>
        </p:nvSpPr>
        <p:spPr>
          <a:xfrm>
            <a:off x="533520" y="266688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tiêu, nhiệm vụ mới, biện pháp thực hiện, kiến nghị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10"/>
          <p:cNvSpPr/>
          <p:nvPr/>
        </p:nvSpPr>
        <p:spPr>
          <a:xfrm>
            <a:off x="533520" y="491004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6211-32D4-45C1-812F-61DC9DB4A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3E8-001F-409C-A45E-102EB9C22AF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Xaùc ñònh muïc ñích cuûa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hu thaäp döõ lieäu caàn baùo caùo: Ñoái chieáu thoâng tin ñeå kieåm chöùng ñoä xaùc thöïc cuûa thoâng 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Saép xeáp, toång hôïp döõ lieäu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ổng kết hoaït ñoäng, kinh nghieäm, yù kieán caàn ñeà xuaát leân caáp treâ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Horizontal Scroll 5"/>
          <p:cNvSpPr/>
          <p:nvPr/>
        </p:nvSpPr>
        <p:spPr>
          <a:xfrm>
            <a:off x="380880" y="0"/>
            <a:ext cx="845820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PHƯƠNG PHÁP SOẠN THẢ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6"/>
          <p:cNvSpPr/>
          <p:nvPr/>
        </p:nvSpPr>
        <p:spPr>
          <a:xfrm>
            <a:off x="457200" y="1100160"/>
            <a:ext cx="830592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3C8-0195-4F0E-8E3D-9A97D734A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5B8-1208-4A98-86A5-EB68A27EF26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Coâng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vieäc ñaõ laøm ñöôïc, chöa laøm ñöô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uû quan, khaùch q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Bieän phaùp thöïc hieän coâng vieäc coøn laï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Horizontal Scroll 5"/>
          <p:cNvSpPr/>
          <p:nvPr/>
        </p:nvSpPr>
        <p:spPr>
          <a:xfrm>
            <a:off x="380880" y="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2. VIẾT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Horizontal Scroll 6"/>
          <p:cNvSpPr/>
          <p:nvPr/>
        </p:nvSpPr>
        <p:spPr>
          <a:xfrm>
            <a:off x="457200" y="9144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SƠ KẾT (6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33520" y="4191120"/>
            <a:ext cx="8076960" cy="2209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Toång hôïp nhieäm vuï ñaõ hoaøn thaønh, chöa hoaøn thaønh (keát quaû cuï theå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ưa hoaøn thaø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Phöông höôùng nhieäm vuï cho năm sa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Horizontal Scroll 9"/>
          <p:cNvSpPr/>
          <p:nvPr/>
        </p:nvSpPr>
        <p:spPr>
          <a:xfrm>
            <a:off x="457200" y="34290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TỔNG KẾT (12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08-10T08:27:38Z</dcterms:modified>
  <cp:revision>306</cp:revision>
  <dc:subject/>
  <dc:title>Chương 9.4</dc:title>
</cp:coreProperties>
</file>